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1824-AFB6-4616-BE0C-40748A6909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2E3F-932C-4E7B-9B49-402AA5A74F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7C29-51C7-470E-AA4F-9FBAD8AA2F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E9F-7434-4E4B-8132-CEEE6D9C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1AC-7DC6-4092-B233-B72F9BE6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B980-6F1A-4EF2-AB95-747B986C5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8DD-71C7-43AF-9815-45FCA260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22B8-57F8-497D-91FE-13F4B6A176C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8007-F73A-402D-9593-45A0767A13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0149-60EE-4186-9CA4-ABFA985D3A3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8AC6-2E18-484F-A6C1-D08F845E228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2E2C-FB58-49C3-8FA2-1AAD0AB48D8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7AA6D-7ED9-4FAB-8A52-AFEDC2DA3C8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E333-7324-4B61-9BD8-2C5329B2326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6AF2-0156-470D-B749-E0757E589D8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5BE2-2ABB-46EA-B2B1-A1C3DBE8949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6C03-1E44-4836-912B-469D1A795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E5C-1D46-48CB-85A5-9647D364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8DCBE-C8D3-44C2-B5EB-659C0E7B3C6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62F-8955-4E21-99BD-E7F16D79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129-F399-4F72-AE4F-63E3E7C7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AE7ED-A9E0-40F4-85CA-BECDF3A0E3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91561-67FF-47C5-A7CF-4D614193FF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F5CF0-6561-4121-BFD6-D4E4AD6C0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9FD-9A77-4439-B88C-CF7C0AB0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62692-0F44-4420-991E-50F68EDADA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98D5E-8A9A-41F1-996A-CB8F6B23B5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4F597-73AA-4679-A3EB-C0720D68A8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04771-5B87-45FB-ADE9-615A896524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525B7-DF32-4FA2-BED0-EBC5E660A1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914F4-55E4-441F-A9E3-A638E6E0D0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D2E15-FF36-4454-AFEF-4A48900A45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EA91F-2A22-48D2-9B3B-68F6C1E3BA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3D3C8-ACBE-465A-81B6-318AFF00A7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3F74D2-A947-4DA7-8BD5-3B72DAF19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A2A-F726-4B4D-A2FC-AB166CF4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6674BC-D4FD-4F17-A03E-44E54320C43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7B386-01AF-415D-A3DE-406E2169E66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BC358-B422-476F-944C-185B3098F91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47739-F41B-4010-8FAB-A977ED5427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FD554-A9E4-48BA-A22B-D5C88B5447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C2177-81D9-4FE8-9A6C-E8B5405DA11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654B4C-2A56-4ED2-8457-FA4191A2D6B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E8BE2-35EA-44FB-AC5C-7430EE35F0F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A3D9C-38AA-40B4-A0FB-574CF1724FC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228C8-1129-415A-B344-D55294CF2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490-CD2F-4579-8FA0-431A0515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497E2-1410-4790-9F42-1C6DB60C70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0EC-12AB-492D-95CB-1E17B89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2F1-936B-4BF7-9026-A44532A4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6B4-6FA8-4070-9E12-A3AB6003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A9FC-18CF-4FDB-AD36-12E6D58E0E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46B9-0A36-4613-B76A-FA9AA3B720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E653-39F6-4654-A7A6-8357E99E7C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4D20-FB17-4915-850C-D184CEC2F1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rz@itrus.com.cn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USBKey</a:t>
            </a: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智能卡介质解锁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解锁办理条件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14240" y="135720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存储数字证书的专用硬件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什么情况解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供应商连续输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密码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被锁定无法使用，需要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进行解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日常使用的数字证书客户端工具中，在证书服务中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解锁需要申请资料并进行填写，填写的信息确认与公司信息一致后在线提交解锁申请更新数字证书；申请材料包括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申请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324000" y="2735280"/>
            <a:ext cx="8435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扫描件或电子照片，发送到邮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rz@itrus.com.c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邮件主题注明“某某公司解锁申请凭证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的电子材料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解锁工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解锁办理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1098720" y="2924280"/>
            <a:ext cx="8065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解锁收费标准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次，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解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锁资料接收邮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rz@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58Z</dcterms:modified>
  <cp:revision>197</cp:revision>
  <dc:subject/>
  <dc:title>幻灯片 1</dc:title>
</cp:coreProperties>
</file>