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2503-E3D7-482E-BE5A-9D98563D12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1871-6B25-4E4E-9B03-0A121675A0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BBC8-D9BE-4900-8A1F-D3A2DD549B4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5A8-9466-4CAB-8DDC-9CE1CCF8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943-1A66-4661-98CF-3C736148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0419F-6F34-4D62-B2FA-AD9AFE462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211-3EA6-43D3-9906-B15C8841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63794-3ADF-4BC7-A559-830A01CFC27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1112C-4F63-4E40-9CC0-3E2133F6408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76D82-44F7-4396-83DD-74E78850145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EC343-1812-427C-86E9-6AFDD86858A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5AD3E-4541-433F-9C40-5343EFE94A3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908A7-7AF7-4699-B16F-99AF6CF465F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5705A-2114-4107-9D67-7302E7AB58C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B706D-A50D-4764-AA7F-EB0769C65F1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E4494-B82C-4121-90F5-FAAD8FF3DCC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0799F-CF98-4A52-B730-293ADC572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E0B-DDC6-405D-BDA6-51E46DDB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65978-C2D5-430C-BB1A-0A2745870DD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E38-935E-4777-AA03-6671318C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B49-504F-4A70-954C-0E0A1240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FFC4A-315E-4C38-9C23-FD715B70F3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84F49-042E-4936-99E5-281DE6B9613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9E06C-F465-41E1-A074-960C14E00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B5F-4FE0-474A-96AC-1CFC2C51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13EC2-D56C-4DAE-B7F9-B0604B92B5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1EFFA-CC01-4310-81B2-54A66F2871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C2169-54E3-4F56-A296-EF0479ACD49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31076-17CC-428E-AE63-CB74F54F85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BB64B-72C6-4F42-A9FF-1EB7F883CC7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D6EC7-68A0-4D7B-A38E-6AD90291DC7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8C400-B550-450C-80F9-9882932C974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9FC3A-182F-4398-9D86-A1BBE62830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20BB0-4A6A-497E-8728-3CFBCC00F83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EDC35E-1143-495C-973E-8BEAF5386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3AB-8723-4272-8577-A08FC744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CA9AD3-17B5-4857-A89B-43926687820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2BBFC2-34CF-4A50-BD14-71B2D442A04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FE2AB3-256A-4BFB-AAC3-6D9875AA652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7E68A7-01FF-40CE-9F5D-CDDBF036894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AAD781-771B-4914-838A-B542FE760A6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9B4DC7-F5A2-4E4F-9AE9-073BE40C4A1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4CEDE7-4272-484F-BFE4-A20E80321E3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FC441D-0729-44BB-911B-86E1886D74B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D9FBB0-C1F2-442E-B09E-F97E2AF17AE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29A4BB-96F4-4ADB-9BAF-C2D0D7B4B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77D-E1E4-4664-A30E-2FCB3A22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4539B6-290F-4965-B34B-662658368D4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A1A-4A7F-4C26-9F3E-69472577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7D6-2C20-4000-A78B-12340029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47F-3ECD-4B82-ABEB-AE1D5832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97ED-E022-418C-801B-3283C1518D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AB55-B3E9-4124-A46B-D2CE7071C5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A742-D570-44D4-801D-5C6A1AC1B5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C578-4174-4DC9-BA67-529A0D463A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数字证书更新办理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数字证书更新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55640" y="2349360"/>
            <a:ext cx="806436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数字证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有效期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证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到期前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天内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需要更新数字证书，否则数字证书无法继续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52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324000" y="98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在数字证书客户端工具中，在证书服务中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新服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4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056720" cy="45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12"/>
          <p:cNvSpPr/>
          <p:nvPr/>
        </p:nvSpPr>
        <p:spPr>
          <a:xfrm>
            <a:off x="1714680" y="119160"/>
            <a:ext cx="54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填写用户基本信息和下载更新证书申请资料并进行填写，填写的信息确认与公司信息一致后在线提交更新数字证书请求；申请材料包括：营业执照副本复印件、组织机构代码副本证复印件（如企业已办理三证合一，只需要提供营业执照副本）、数字证书申请表、联系人身份证复印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2" descr=""/>
          <p:cNvPicPr/>
          <p:nvPr/>
        </p:nvPicPr>
        <p:blipFill>
          <a:blip r:embed="rId1"/>
          <a:stretch/>
        </p:blipFill>
        <p:spPr>
          <a:xfrm>
            <a:off x="225360" y="2735280"/>
            <a:ext cx="83329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12"/>
          <p:cNvSpPr/>
          <p:nvPr/>
        </p:nvSpPr>
        <p:spPr>
          <a:xfrm>
            <a:off x="1714680" y="11916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324000" y="981000"/>
            <a:ext cx="813564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司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支付凭证快递到天威诚信数字证书服务中心（地址请见第五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的纸质申请材料并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数字证书更新密码邮件发送给供应商，并短信通知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接收天威诚信更新密码通知邮件，按照邮件说明完成在线更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642960" y="1500120"/>
            <a:ext cx="8066160" cy="35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新数字证书费用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8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数字证书有效期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三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开始日期从证书更新成功之日开始计算，不限制使用次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注：要求供应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卡介质未损坏并可继续使用，如损坏，则按照初次办理流程进行收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642960" y="928800"/>
            <a:ext cx="80661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有限公司更新证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8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"/>
          <p:cNvSpPr/>
          <p:nvPr/>
        </p:nvSpPr>
        <p:spPr>
          <a:xfrm>
            <a:off x="684360" y="1268280"/>
            <a:ext cx="80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服务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远程办理方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快递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北京市海淀区上地八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1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室，北京天威诚信电子商务服务有限公司，认证服务部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10-50947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24Z</dcterms:modified>
  <cp:revision>231</cp:revision>
  <dc:subject/>
  <dc:title>幻灯片 1</dc:title>
</cp:coreProperties>
</file>